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F76-26F6-4FDC-94B4-92B08F1F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A74-CFB3-4372-8E44-988C60E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47C-725D-481E-9F32-FAC66E51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A9F-2CAE-4B65-B67A-3E188A980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8919-B178-4AD9-B789-3F42F209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FB37-C364-4EB3-9B72-3EE3CD7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C5A6-FD2C-43CE-ADC8-AE1713E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B86-1BFC-4091-9A85-0D49C4AB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FE21-F0C7-4CF4-9342-647F2332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08B-B4FE-41EF-9304-861B1FC1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0C90-B01E-49BF-AC69-ED273E46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CF3-0092-46B1-9A5D-63FECA15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4A6B-AE06-4DF3-AF2D-6110858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6E2-78BF-4197-AFFC-9B37882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6758-6BF3-43C9-89C6-0E9C1AEC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EC46-7FBD-4ABF-80E0-6F218501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C3C-1EDD-480C-AB4B-6A3A4D79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C5BE-2331-4D9C-830E-0562A8FC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192E-EFFB-4FC1-BD83-637055FB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3F389-02BC-46AA-A16F-70AD2948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1CE2-4AA4-4E25-9455-71DED8CC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7375-A6CF-4160-9279-DE0E83AD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F37-7156-4C47-9DAE-76070839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CA5A-3952-4646-9E94-F71AEED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32B6-4A58-44A5-A9D6-B167EEA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AC66E-40CC-4AFA-B0A1-44B468F7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16892-4A82-4A5E-A652-0456E65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18CA-58D9-4C7A-9C66-5FB86F0F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35EC-0197-44C6-90EF-33150024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E2C4-8F86-4006-9786-2E04CF56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3869B-13FC-4630-8D26-A2CF4863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EB87-1BEE-480C-908E-FF0A07E8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03447-0419-4D56-B513-A02348D1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25F-A563-4F3E-BB18-FD197BDB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1619A-4C1D-43DB-8B46-11A95CF8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AD12D-2A74-48E4-AA4C-08B58C27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65FED-32DE-48FA-AFE6-B710A17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C3F7-EF92-4164-8641-B071ED1D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AA45-AAEB-4075-BD35-91FEC1D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8D0E-133C-419F-B686-7DBABB4B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1770-1A52-44F0-B342-2AEB84E8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FC862-5914-4A9C-8E88-CE0991CF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4ED7E-E8E3-471B-88C0-2F8E27D7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530-705F-49A6-8D36-C53198B9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3D8B-19B9-4B42-9A05-2035A9CB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A1C-CC7A-4151-B1B8-FE2C7496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864-9FF5-497B-B0E0-C861CFDB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727-3DE5-4FC2-9733-D05FA9DE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9C0D-7D60-49D3-B2FA-77536D03FC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B1DC-20CE-4D95-ACE4-7FB0BF4D16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F7D8-9FE9-4211-882D-CFAD357CB9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46D6-1A48-4549-AB56-F175599A4F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0000" y="5373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2195640" y="198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Arial"/>
              </a:rPr>
              <a:t>Сохраним планету – сохраним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планета Земля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0246.jpg"/>
          <p:cNvPicPr/>
          <p:nvPr/>
        </p:nvPicPr>
        <p:blipFill>
          <a:blip r:embed="rId1"/>
          <a:stretch/>
        </p:blipFill>
        <p:spPr>
          <a:xfrm>
            <a:off x="1000080" y="1643040"/>
            <a:ext cx="1657440" cy="1257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Друзья.jpg"/>
          <p:cNvPicPr/>
          <p:nvPr/>
        </p:nvPicPr>
        <p:blipFill>
          <a:blip r:embed="rId2"/>
          <a:stretch/>
        </p:blipFill>
        <p:spPr>
          <a:xfrm>
            <a:off x="3143160" y="1500120"/>
            <a:ext cx="5616720" cy="4211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j0178656.jpg"/>
          <p:cNvPicPr/>
          <p:nvPr/>
        </p:nvPicPr>
        <p:blipFill>
          <a:blip r:embed="rId3"/>
          <a:stretch/>
        </p:blipFill>
        <p:spPr>
          <a:xfrm>
            <a:off x="214200" y="3500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храним родную при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10.jpg"/>
          <p:cNvPicPr/>
          <p:nvPr/>
        </p:nvPicPr>
        <p:blipFill>
          <a:blip r:embed="rId1"/>
          <a:stretch/>
        </p:blipFill>
        <p:spPr>
          <a:xfrm>
            <a:off x="1266840" y="1600200"/>
            <a:ext cx="66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 апреля – всемирный день Земл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7 год - год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же так получается, что планета вращается, что планета вращается несмотря ни на чт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мы вроде бы умные – о природе не думаем, и , конечно, не думаем, что же дальше нас ждет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хранить природу – это сохранить жиз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поведник был создан в Соединенных Штатах Америки в 1832 г., Там же в 1872 был открыт первый национальный парк – Иеллоустон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год во всем мире в водоемы попадают столько вредных веществ, что ими можно было бы наполнить 10 тысяч товарных поездов. Даже во льдах Арктики нашли стиральный порош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и,родник,жив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зеро Байкал, содержит 1/3 мировых запасов пресной воды потеряло способность самоочищаться. За последние 60 лет на планете исчезли 77 видов животных и несколько сотен видов растений, 26 видов пти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территории нашей страны выделено около 300 ареалов с острой экологической ситуацией. Они занимают 16 % ее площади,или 3,7 млн к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мага будет лежать 2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ная банка –более 3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иэтиленовый пакет – более 2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кло – более 10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ловек! Запомни навсегда:Символ жизни на земле – вода! Экономь ее и береги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0241.jpg"/>
          <p:cNvPicPr/>
          <p:nvPr/>
        </p:nvPicPr>
        <p:blipFill>
          <a:blip r:embed="rId1"/>
          <a:stretch/>
        </p:blipFill>
        <p:spPr>
          <a:xfrm>
            <a:off x="1428840" y="1571760"/>
            <a:ext cx="5932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я книга растений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96760" y="22320"/>
            <a:ext cx="50086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5760" y="3573360"/>
            <a:ext cx="3108240" cy="31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511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0:20:36Z</dcterms:created>
  <dc:creator>Admin</dc:creator>
  <dc:description/>
  <dc:language>en-US</dc:language>
  <cp:lastModifiedBy>RePack by Diakov</cp:lastModifiedBy>
  <dcterms:modified xsi:type="dcterms:W3CDTF">2017-01-30T16:48:31Z</dcterms:modified>
  <cp:revision>9</cp:revision>
  <dc:subject/>
  <dc:title>На пороге экологической катастрофы</dc:title>
</cp:coreProperties>
</file>